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D37-F210-43FB-87A5-93877C8E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20A-D0DF-428A-A9C8-49D1376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193-F38E-4EF7-B305-40318E35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D21-8772-4238-A54A-DE866373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22B7-A6C7-4386-A554-B0D9964C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AFD4-21EE-4182-AFA3-40CE237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C5C7-1D80-4ECC-B61A-73A1D79A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F5C-7C43-4440-81B0-0DD94FB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540E-EF95-430F-A521-70019E3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9728-2D7C-499A-9C79-EEEBFB4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2C35-7FBB-4158-B132-59793ED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095-B981-48FD-80A5-87F930F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CC4D-7480-4162-880E-F17EBD8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485-C3F7-41A8-8E59-DDAFE49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F414-F008-4DAE-862C-F10A5333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A557-D829-494B-A8A4-FC2BD6F9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80C-92BE-42BF-AF68-B2419DBB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267-EE08-4E65-A4A1-C308F6F9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362-BAB3-4E81-A857-7471B41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B38-D0DA-4702-A71F-03B3E1F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E85-0734-43CC-9234-0A6C502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640-AE1E-4A09-BB3E-DDB2FD6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264-A741-4725-BB29-9CEE544F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4DC-0B5C-4D70-A131-62EEEC1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728-91E8-4BD2-A034-8B359D3A93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8150-9DAC-4905-BF51-F67D864DEF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914400" y="1600200"/>
            <a:ext cx="6848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m mă poate ajuta statistica 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în luarea de hotărâri? 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99"/>
                </a:solidFill>
                <a:latin typeface="Arial"/>
              </a:rPr>
              <a:t>Ce înseamnă statistic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23880" y="2354760"/>
            <a:ext cx="72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De ce a apărut necesitatea acestei științe?</a:t>
            </a: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3200" y="33541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ât de exacte pot fi predicțiile bazate pe statistică?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16800" y="457344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are este influenţa statisticii asupra vieţii noastre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ffff99"/>
                </a:solidFill>
                <a:uFillTx/>
                <a:latin typeface="Arial"/>
              </a:rPr>
              <a:t>Date la nivelul școli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916280"/>
          <a:ext cx="4140360" cy="3138480"/>
        </p:xfrm>
        <a:graphic>
          <a:graphicData uri="http://schemas.openxmlformats.org/drawingml/2006/table">
            <a:tbl>
              <a:tblPr/>
              <a:tblGrid>
                <a:gridCol w="754200"/>
                <a:gridCol w="863640"/>
                <a:gridCol w="779400"/>
                <a:gridCol w="995400"/>
                <a:gridCol w="74772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racteristic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a absolu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relativ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absolută cumula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cvență relativă cumulată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3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45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-6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-10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3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5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50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i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59"/>
          <p:cNvSpPr/>
          <p:nvPr/>
        </p:nvSpPr>
        <p:spPr>
          <a:xfrm>
            <a:off x="0" y="461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hart 2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60836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CasetăText 5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Times New Roman"/>
              </a:rPr>
              <a:t>Ce semnificație au următoarele date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533520" y="1676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Segoe Print"/>
              </a:rPr>
              <a:t>S</a:t>
            </a:r>
            <a:r>
              <a:rPr b="1" lang="hu-HU" sz="2400" spc="-1" strike="noStrike">
                <a:solidFill>
                  <a:srgbClr val="ffffff"/>
                </a:solidFill>
                <a:latin typeface="Segoe Print"/>
              </a:rPr>
              <a:t>tatistica</a:t>
            </a: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 se ocupă cu organizarea, prelucrarea și interpretarea datelor, precum și cu previziuni legate de evenimente ce se pot realiza în viito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egoe Print"/>
              </a:rPr>
              <a:t>Astăzi există, aproape în fiecare țară organisme specializate pe statistică, agenții naționale de demografie, institute ce realizează sondaje de opinie</a:t>
            </a:r>
            <a:r>
              <a:rPr b="0" lang="hu-HU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5:09:56Z</dcterms:created>
  <dc:creator>Colegiul</dc:creator>
  <dc:description/>
  <dc:language>en-US</dc:language>
  <cp:lastModifiedBy>Hasas Tunde</cp:lastModifiedBy>
  <dcterms:modified xsi:type="dcterms:W3CDTF">2011-02-03T11:00:49Z</dcterms:modified>
  <cp:revision>9</cp:revision>
  <dc:subject/>
  <dc:title>Slide 1</dc:title>
</cp:coreProperties>
</file>